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3B6-90FF-4D8F-82CC-92303559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52D-9FAD-4AD8-AD00-9AC2329E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595-0D3A-42B4-8F50-08E406FE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166-BC44-4AC9-8BB6-AD281DAB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87C-54B6-42A8-800D-29B45E14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7FD-B627-42B9-B74A-7EEE8F0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000-7A6D-4657-8540-7C56D36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EDB-633F-4652-88EF-C40726A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6A2-ECD4-49E4-ACD0-7328822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0A7-D049-4C44-A688-1DDD170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9F8-E53F-4E3E-BEF4-4BDC2A1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655-EA08-4409-803E-867738ED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DCF7-9251-4E72-B00F-845EE20C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eb.mit.edu/invent/iow/haas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762120"/>
            <a:ext cx="7116840" cy="43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Rounded MT Bold"/>
              </a:rPr>
              <a:t>PE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latin typeface="Arial Rounded MT Bold"/>
              <a:ea typeface="Arial Rounded MT Bold"/>
            </a:endParaRPr>
          </a:p>
        </p:txBody>
      </p:sp>
      <p:sp>
        <p:nvSpPr>
          <p:cNvPr id="42" name=""/>
          <p:cNvSpPr/>
          <p:nvPr/>
        </p:nvSpPr>
        <p:spPr>
          <a:xfrm>
            <a:off x="7245360" y="5181480"/>
            <a:ext cx="189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94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: free play music, Country 10/4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Z was invented in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Z stands for “Pfefferminze” the German word for pepperm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as had the idea of putting an ad out saying “For smokers that might of want to stop smoking put a PEZ in your mouth in stead of a cigaret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as also made a plastic lighter that dispensed one PEZ at 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5 Haas started to make cartoon head dispensers for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lemon, grape, orange, &amp; strawberry at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known cartoon dispensers were Santa Claus, Popeye, and a space tr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uard Haas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ard was born near Vienna, Australia in 189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grandpa invented a baking powder to make cakes a lighter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dad studied medicine and opened a wholesale grocery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aas"/>
          <p:cNvPicPr/>
          <p:nvPr/>
        </p:nvPicPr>
        <p:blipFill>
          <a:blip r:embed="rId2"/>
          <a:srcRect l="0" t="0" r="75013" b="2281"/>
          <a:stretch/>
        </p:blipFill>
        <p:spPr>
          <a:xfrm>
            <a:off x="0" y="0"/>
            <a:ext cx="281952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aas"/>
          <p:cNvPicPr/>
          <p:nvPr/>
        </p:nvPicPr>
        <p:blipFill>
          <a:blip r:embed="rId3"/>
          <a:srcRect l="26089" t="0" r="0" b="0"/>
          <a:stretch/>
        </p:blipFill>
        <p:spPr>
          <a:xfrm>
            <a:off x="0" y="3352680"/>
            <a:ext cx="632448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aas"/>
          <p:cNvPicPr/>
          <p:nvPr/>
        </p:nvPicPr>
        <p:blipFill>
          <a:blip r:embed="rId4"/>
          <a:stretch/>
        </p:blipFill>
        <p:spPr>
          <a:xfrm>
            <a:off x="6324480" y="3352680"/>
            <a:ext cx="2819520" cy="350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5720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. Mit program, PEZ, Sept. 29.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0Z</dcterms:created>
  <dc:creator>install</dc:creator>
  <dc:description/>
  <dc:language>en-US</dc:language>
  <cp:lastModifiedBy>install</cp:lastModifiedBy>
  <dcterms:modified xsi:type="dcterms:W3CDTF">2010-10-13T18:09:43Z</dcterms:modified>
  <cp:revision>13</cp:revision>
  <dc:subject/>
  <dc:title>Slide 1</dc:title>
</cp:coreProperties>
</file>